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0971-ABE7-4E9A-9B54-DED8B1979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C5F3-C7D9-43B2-A564-94077DC82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DB4D-8A2F-474E-90F8-072A1D52B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FCB2-0F54-4851-AB19-F5E646DD7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06DE-9A99-4B9B-8241-D65EA77B6F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D29B-26A7-4A73-B437-8FD4D4C37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4025-F96C-4A1C-B5CA-78AD4037B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9AF0-5712-4A21-961F-39C509DE8A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8D4B-8682-45F3-AF1C-592186D09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260F-771C-4538-9DB0-1E10E1569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6F34-37EE-4B7D-AC1C-FA0CF714E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3CE7-C69D-4474-87B7-73A32FDC2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E5BA-B018-4790-84B7-6B701CF26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F389-AC2F-40B0-A01F-17D17EB08D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8456-EA98-4584-AE2B-FC8039083D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788B-61ED-4F49-A081-96623B7F08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421B-8443-4E85-B1F4-1E8DB1D4B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4E83-008D-4CB6-BDC5-32F004C85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3E9A-FA38-401E-8186-00181BF99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86E8-C4C0-4608-A5F7-050016C8A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A3DF-2CF8-48AC-A61B-0F68362DF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793F-5413-4C5A-92EF-7E40CDC2B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8101-35BA-4A8B-AC62-E6CA7071D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C230-092F-4C30-B363-611383DCD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656B-27C6-4235-8AFF-3D6550728D9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61B-2FA0-4660-A317-AB1A96CE7BA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Feedback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s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: growth = population x 50%, population x 9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4210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s have limi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low: growth = population x 50%, population x 9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What would happen if growth rates decrease 20% each year and we simulate until time 30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st lec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Line 2"/>
          <p:cNvSpPr/>
          <p:nvPr/>
        </p:nvSpPr>
        <p:spPr>
          <a:xfrm>
            <a:off x="2587680" y="28144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5384880" y="282240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1840" y="24750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59480" y="2532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573360" y="2347920"/>
            <a:ext cx="1800360" cy="936720"/>
            <a:chOff x="3573360" y="2347920"/>
            <a:chExt cx="1800360" cy="936720"/>
          </a:xfrm>
        </p:grpSpPr>
        <p:sp>
          <p:nvSpPr>
            <p:cNvPr id="104" name="Rectangle 7"/>
            <p:cNvSpPr/>
            <p:nvPr/>
          </p:nvSpPr>
          <p:spPr>
            <a:xfrm>
              <a:off x="3573360" y="2347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026240" y="2347920"/>
              <a:ext cx="8938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4220640"/>
            <a:ext cx="85345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8534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 is how the system affect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587680" y="324468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84880" y="32576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01840" y="29084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59480" y="29638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 flipH="1">
            <a:off x="3849840" y="3249720"/>
            <a:ext cx="1382400" cy="11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573360" y="2779560"/>
            <a:ext cx="1800360" cy="936720"/>
            <a:chOff x="3573360" y="2779560"/>
            <a:chExt cx="1800360" cy="936720"/>
          </a:xfrm>
        </p:grpSpPr>
        <p:sp>
          <p:nvSpPr>
            <p:cNvPr id="115" name="Rectangle 9"/>
            <p:cNvSpPr/>
            <p:nvPr/>
          </p:nvSpPr>
          <p:spPr>
            <a:xfrm>
              <a:off x="3573360" y="277956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893040" y="2779560"/>
              <a:ext cx="116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1"/>
          <p:cNvSpPr/>
          <p:nvPr/>
        </p:nvSpPr>
        <p:spPr>
          <a:xfrm>
            <a:off x="3849840" y="43322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5384880" y="34732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6200" y="3124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372360" y="31798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5"/>
          <p:cNvSpPr/>
          <p:nvPr/>
        </p:nvSpPr>
        <p:spPr>
          <a:xfrm flipH="1">
            <a:off x="2745720" y="3465360"/>
            <a:ext cx="138276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700360" y="47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587680" y="346068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170028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9"/>
          <p:cNvSpPr/>
          <p:nvPr/>
        </p:nvSpPr>
        <p:spPr>
          <a:xfrm flipH="1" rot="10800000">
            <a:off x="4761360" y="2400480"/>
            <a:ext cx="1538280" cy="106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3571920" y="2995560"/>
            <a:ext cx="1801800" cy="938160"/>
            <a:chOff x="3571920" y="2995560"/>
            <a:chExt cx="1801800" cy="938160"/>
          </a:xfrm>
        </p:grpSpPr>
        <p:sp>
          <p:nvSpPr>
            <p:cNvPr id="128" name="Rectangle 11"/>
            <p:cNvSpPr/>
            <p:nvPr/>
          </p:nvSpPr>
          <p:spPr>
            <a:xfrm>
              <a:off x="3571920" y="2995560"/>
              <a:ext cx="180180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3621240" y="2995560"/>
              <a:ext cx="1703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lbed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2" descr="image.png"/>
          <p:cNvPicPr/>
          <p:nvPr/>
        </p:nvPicPr>
        <p:blipFill>
          <a:blip r:embed="rId1"/>
          <a:srcRect l="0" t="0" r="0" b="11862"/>
          <a:stretch/>
        </p:blipFill>
        <p:spPr>
          <a:xfrm>
            <a:off x="2776680" y="619200"/>
            <a:ext cx="4249440" cy="4124160"/>
          </a:xfrm>
          <a:prstGeom prst="rect">
            <a:avLst/>
          </a:prstGeom>
          <a:ln w="0">
            <a:noFill/>
          </a:ln>
        </p:spPr>
      </p:pic>
      <p:sp>
        <p:nvSpPr>
          <p:cNvPr id="132" name="Line 3"/>
          <p:cNvSpPr/>
          <p:nvPr/>
        </p:nvSpPr>
        <p:spPr>
          <a:xfrm>
            <a:off x="3021120" y="58975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818320" y="579276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692360" y="5560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966000" y="5505480"/>
            <a:ext cx="20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7"/>
          <p:cNvSpPr/>
          <p:nvPr/>
        </p:nvSpPr>
        <p:spPr>
          <a:xfrm flipH="1" rot="10800000">
            <a:off x="5151960" y="4836600"/>
            <a:ext cx="1538280" cy="10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4006800" y="5432400"/>
            <a:ext cx="1800360" cy="938160"/>
            <a:chOff x="4006800" y="5432400"/>
            <a:chExt cx="1800360" cy="938160"/>
          </a:xfrm>
        </p:grpSpPr>
        <p:sp>
          <p:nvSpPr>
            <p:cNvPr id="138" name="Rectangle 9"/>
            <p:cNvSpPr/>
            <p:nvPr/>
          </p:nvSpPr>
          <p:spPr>
            <a:xfrm>
              <a:off x="4006800" y="54324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49760" y="5432400"/>
              <a:ext cx="5144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Ic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Line 11"/>
          <p:cNvSpPr/>
          <p:nvPr/>
        </p:nvSpPr>
        <p:spPr>
          <a:xfrm>
            <a:off x="5794200" y="6191280"/>
            <a:ext cx="986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942240" y="590544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lect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ater in the da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2998800" y="1627200"/>
            <a:ext cx="1800360" cy="938160"/>
            <a:chOff x="2998800" y="1627200"/>
            <a:chExt cx="1800360" cy="938160"/>
          </a:xfrm>
        </p:grpSpPr>
        <p:sp>
          <p:nvSpPr>
            <p:cNvPr id="144" name="Rectangle 3"/>
            <p:cNvSpPr/>
            <p:nvPr/>
          </p:nvSpPr>
          <p:spPr>
            <a:xfrm>
              <a:off x="2998800" y="16272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3508560" y="1627200"/>
              <a:ext cx="7808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Da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5"/>
          <p:cNvSpPr/>
          <p:nvPr/>
        </p:nvSpPr>
        <p:spPr>
          <a:xfrm>
            <a:off x="2013120" y="20923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565440" y="3571920"/>
            <a:ext cx="1800360" cy="936720"/>
            <a:chOff x="3565440" y="3571920"/>
            <a:chExt cx="1800360" cy="936720"/>
          </a:xfrm>
        </p:grpSpPr>
        <p:sp>
          <p:nvSpPr>
            <p:cNvPr id="148" name="Rectangle 7"/>
            <p:cNvSpPr/>
            <p:nvPr/>
          </p:nvSpPr>
          <p:spPr>
            <a:xfrm>
              <a:off x="3565440" y="3571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136760" y="3571920"/>
              <a:ext cx="657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Cit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Line 9"/>
          <p:cNvSpPr/>
          <p:nvPr/>
        </p:nvSpPr>
        <p:spPr>
          <a:xfrm>
            <a:off x="4809960" y="213372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0"/>
          <p:cNvSpPr/>
          <p:nvPr/>
        </p:nvSpPr>
        <p:spPr>
          <a:xfrm flipH="1">
            <a:off x="4465080" y="4041720"/>
            <a:ext cx="1438200" cy="12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91" y="0"/>
                </a:moveTo>
                <a:cubicBezTo>
                  <a:pt x="4045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4900"/>
                  <a:pt x="21600" y="82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4465800" y="2349360"/>
            <a:ext cx="9442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755360"/>
            <a:ext cx="10098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12000" y="426096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5886360" y="1773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enerat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5221440" y="27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39640" y="5732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information delivered by a feedback can only affect futur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1: Balan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negative, self-correcting, discrepancy-reducing, r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quilibrating or goal-seeking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image.pdf"/>
          <p:cNvPicPr/>
          <p:nvPr/>
        </p:nvPicPr>
        <p:blipFill>
          <a:blip r:embed="rId1"/>
          <a:stretch/>
        </p:blipFill>
        <p:spPr>
          <a:xfrm>
            <a:off x="1806480" y="2997360"/>
            <a:ext cx="5645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ffee Cups Cooling or Warm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coffee temperature(t) = coffee temperature(t – dt) – flow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: coffee temperature = 8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5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20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low: discrepancy x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screpancy: coffee temperature – room temp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oom temperature: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2: Reinfor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positive, self-reinforcing, discrepancy-enhancing, d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lf-enhancing behavior that leads to growth or even collap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image.pdf"/>
          <p:cNvPicPr/>
          <p:nvPr/>
        </p:nvPicPr>
        <p:blipFill>
          <a:blip r:embed="rId1"/>
          <a:stretch/>
        </p:blipFill>
        <p:spPr>
          <a:xfrm>
            <a:off x="2195640" y="3357720"/>
            <a:ext cx="5405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 R Andrade Nt</cp:lastModifiedBy>
  <dcterms:modified xsi:type="dcterms:W3CDTF">2020-07-30T16:46:46Z</dcterms:modified>
  <cp:revision>4</cp:revision>
  <dc:subject/>
  <dc:title>Feedbacks</dc:title>
</cp:coreProperties>
</file>